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F4E-C1D5-48DB-8FBE-440886E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6A8-53DE-4075-9FFF-EE2428F3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961-7A48-45AD-98C4-E0E32025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73F-1950-4B26-B50F-0650B62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CC6-B702-49AC-9C63-75B2F984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A3E-5A51-473D-AC22-A219EC7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FB-D15E-43B7-8729-43BF8E1F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FCA-895E-4A07-8B84-733B864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AE9-33D4-48E6-AAC4-F118F76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D0C-B0BB-4DCE-9A79-B6CAD7D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A12-DEDC-49F1-8CD4-FE0DD2D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A69-4522-4BC2-AD05-DB556076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B11-836A-4580-A3D2-2FD241BF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404640"/>
          <a:ext cx="6096240" cy="6072120"/>
        </p:xfrm>
        <a:graphic>
          <a:graphicData uri="http://schemas.openxmlformats.org/drawingml/2006/table">
            <a:tbl>
              <a:tblPr/>
              <a:tblGrid>
                <a:gridCol w="244440"/>
                <a:gridCol w="243000"/>
                <a:gridCol w="244440"/>
                <a:gridCol w="243000"/>
                <a:gridCol w="244440"/>
                <a:gridCol w="244440"/>
                <a:gridCol w="243000"/>
                <a:gridCol w="244440"/>
                <a:gridCol w="243000"/>
                <a:gridCol w="244440"/>
                <a:gridCol w="244440"/>
                <a:gridCol w="242640"/>
                <a:gridCol w="244800"/>
                <a:gridCol w="242640"/>
                <a:gridCol w="244440"/>
                <a:gridCol w="244440"/>
                <a:gridCol w="243000"/>
                <a:gridCol w="244440"/>
                <a:gridCol w="243000"/>
                <a:gridCol w="244440"/>
                <a:gridCol w="244440"/>
                <a:gridCol w="243000"/>
                <a:gridCol w="244440"/>
                <a:gridCol w="243000"/>
                <a:gridCol w="244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7640" y="425520"/>
            <a:ext cx="41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15 PALABRAS QUE LLEVEN LAS LETRAS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907920"/>
          <a:ext cx="4321080" cy="5616360"/>
        </p:xfrm>
        <a:graphic>
          <a:graphicData uri="http://schemas.openxmlformats.org/drawingml/2006/table">
            <a:tbl>
              <a:tblPr/>
              <a:tblGrid>
                <a:gridCol w="1440360"/>
                <a:gridCol w="1440000"/>
                <a:gridCol w="144072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cópt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d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ec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40200" y="352440"/>
            <a:ext cx="3908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tantino tiene puercos y necesita hacer un chiquero, el hizo su chiquero de 25 m cuadrados. ¿Si en cada metro cuadrado hay un puerco, Cuántos puercos tiene en total?_____________ Dibuja el chiquero de Constantino. Cuánto alambre necesitará Constantino para hacer su chiquero si quiere poner una cerca con 4 vueltas de alambre.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 el metro de alambre cuesta $13 pesos, cuánto dinero necesi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alcancía tiene 4 billetes de $200 pesos, cuanto dinero le sobra.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tantino venció 10 puercos en $1260 pesos, cuánto dinero ganó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liza todas las operaciones en esta hoja y las tablas de variación proporcional que necesi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39:34Z</dcterms:created>
  <dc:creator>Usuario</dc:creator>
  <dc:description/>
  <dc:language>en-US</dc:language>
  <cp:lastModifiedBy>Usuario</cp:lastModifiedBy>
  <dcterms:modified xsi:type="dcterms:W3CDTF">2008-06-06T14:44:08Z</dcterms:modified>
  <cp:revision>3</cp:revision>
  <dc:subject/>
  <dc:title>Diapositiva 1</dc:title>
</cp:coreProperties>
</file>